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chimes.wav" ContentType="audio/x-wav"/>
  <Override PartName="/ppt/media/image11.jpeg" ContentType="image/jpeg"/>
  <Override PartName="/ppt/media/image8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410-88FB-4670-AE1A-E10A0B75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59E-4043-45BC-85E5-321FA4C7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C58-A36B-4B85-8820-DC01C364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58A-E936-41C2-804C-5562692D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6310-71F3-40B3-88EB-569248A5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1DEA-54C7-4763-981B-339DC059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D88C-D827-4916-AB52-FD578BE3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3D0-95DE-4F83-B8CF-A92AAF11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D3E-0191-4B67-855F-AFB693B4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3DE5-CFC2-4A71-877E-70FCB804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858B-3A47-4EEE-8D63-4C87C5F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697-3348-4565-BD8C-6ABFEBD0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E10C-89D4-497C-9CC0-2665A3A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B416-18D5-4FDB-9C49-E4901C35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DB99-32B7-4927-B538-81DB2EAA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82FA-6D73-4A6F-9611-50371234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D34B-77E4-4891-8FE2-2DE65021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E4D9-0A9E-42CF-80CA-8FE1B2D5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0D56-F4C1-48BF-8F0A-752F99A1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3E48-2951-4CE0-B8C9-F10CDC7E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CDA2-AD0D-4422-B7F7-A6ECD869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1A4F-3ADE-406F-839B-A471AD6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5B8-24FD-4A46-8428-CF0122D4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31B8-AEAF-4707-9FF0-39AD757A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3A62-CA7C-43F1-A7CC-AF22294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B6C82-AB43-4646-B173-55B3B37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FB7F-AF57-4018-974A-080ECB5C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ABAF-D6BB-45EA-897D-52F623FC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6324-2BF1-4D13-9A15-6E3C9BD1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5D7D-C8D1-4EB5-BFFA-3D6293A1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3BE0-32A3-46C2-A31F-129AEE9E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34DF-43FC-416D-B197-33E092F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2A54-B725-4012-BA2C-779CA45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060-1FC9-4F3D-AC5C-665369E4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5317-2E0D-4730-9BD1-670FF04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6841C-3FBE-42C5-84BF-09350D56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B911C-37BE-44E3-B059-0F011E37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A048-B824-41F9-98CC-D7C7CBCA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A548-CEB9-4D77-81E7-53520469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83FF-AD3A-406B-BF81-71A9223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85AC5-F2B0-4ADE-A0D5-C0845124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6583-2CD8-45A6-AAE9-2E0ABCDF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C546-74F3-4E37-B8B2-632BFB9F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64D-94D5-4147-A51C-E1245DB3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94A-28FD-4037-9D51-18EB804C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8D2-8CC2-4B40-B598-846C7DE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C99-1A89-4912-82FF-95FD3628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60C-2AB0-470B-93F6-6D3D6BE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A367-2C91-45B5-BA98-295D05CB50FE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6A83-AB73-4AF2-8D5A-6A941506E99C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BF1A-6EF0-4EF3-8567-3A4650CC4069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D7FE-A5E8-4A3F-B654-8269FA981D14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420920" y="1017720"/>
            <a:ext cx="5838840" cy="4084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0" y="2858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icky’s Flight 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upload.wikimedia.org/wikipedia/commons/thumb/e/ee/Aeroforces.svg/180px-Aeroforces.svg.png"/>
          <p:cNvPicPr/>
          <p:nvPr/>
        </p:nvPicPr>
        <p:blipFill>
          <a:blip r:embed="rId2"/>
          <a:stretch/>
        </p:blipFill>
        <p:spPr>
          <a:xfrm>
            <a:off x="285840" y="4000680"/>
            <a:ext cx="4354560" cy="2431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Flaps</a:t>
            </a:r>
            <a:br>
              <a:rPr sz="4500"/>
            </a:b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Flaps are something flat and thin that is joined to something else on one side only hangs loose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41432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C:\Program Files\Microsoft Office\Media\CntCD1\ClipArt5\j0285542.wmf"/>
          <p:cNvPicPr/>
          <p:nvPr/>
        </p:nvPicPr>
        <p:blipFill>
          <a:blip r:embed="rId1"/>
          <a:stretch/>
        </p:blipFill>
        <p:spPr>
          <a:xfrm>
            <a:off x="1785960" y="3643200"/>
            <a:ext cx="6289560" cy="1752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Thru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5214600"/>
            <a:ext cx="371484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9" descr="C:\Program Files\Microsoft Office\Media\CntCD1\Photo1\j0181476.jpg"/>
          <p:cNvPicPr/>
          <p:nvPr/>
        </p:nvPicPr>
        <p:blipFill>
          <a:blip r:embed="rId1"/>
          <a:stretch/>
        </p:blipFill>
        <p:spPr>
          <a:xfrm>
            <a:off x="4429080" y="3714840"/>
            <a:ext cx="4372200" cy="28702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9"/>
          <p:cNvSpPr/>
          <p:nvPr/>
        </p:nvSpPr>
        <p:spPr>
          <a:xfrm>
            <a:off x="571680" y="2000160"/>
            <a:ext cx="7786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rust is where a plane gets pushed  forward to make thru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ad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Program Files\Microsoft Office\Media\CntCD1\Photo1\j0289249.jpg"/>
          <p:cNvPicPr/>
          <p:nvPr/>
        </p:nvPicPr>
        <p:blipFill>
          <a:blip r:embed="rId1"/>
          <a:stretch/>
        </p:blipFill>
        <p:spPr>
          <a:xfrm>
            <a:off x="4643280" y="3929040"/>
            <a:ext cx="3929400" cy="2606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adar is a system that Detects where other object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utopil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 Autopilot is a system that controls the whole pla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ithout the pilot controlling the 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http://upload.wikimedia.org/wikipedia/commons/thumb/f/fd/Qantas_a380_vh-oqa_takeoff_heathrow_arp.jpg/300px-Qantas_a380_vh-oqa_takeoff_heathrow_arp.jpg"/>
          <p:cNvPicPr/>
          <p:nvPr/>
        </p:nvPicPr>
        <p:blipFill>
          <a:blip r:embed="rId1"/>
          <a:stretch/>
        </p:blipFill>
        <p:spPr>
          <a:xfrm>
            <a:off x="4929120" y="3643200"/>
            <a:ext cx="3810240" cy="2603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esce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s a plane descends it is going to land on the grou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5" descr="C:\Program Files\Microsoft Office\Media\CntCD1\Photo1\j0202213.jpg"/>
          <p:cNvPicPr/>
          <p:nvPr/>
        </p:nvPicPr>
        <p:blipFill>
          <a:blip r:embed="rId1"/>
          <a:stretch/>
        </p:blipFill>
        <p:spPr>
          <a:xfrm>
            <a:off x="3929040" y="2857680"/>
            <a:ext cx="4729320" cy="3152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3:48:35Z</dcterms:created>
  <dc:creator>Education</dc:creator>
  <dc:description/>
  <dc:language>en-US</dc:language>
  <cp:lastModifiedBy>Education</cp:lastModifiedBy>
  <dcterms:modified xsi:type="dcterms:W3CDTF">2009-07-31T02:34:14Z</dcterms:modified>
  <cp:revision>17</cp:revision>
  <dc:subject/>
  <dc:title>Autopilot Descend Radar Thrust Flaps</dc:title>
</cp:coreProperties>
</file>